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nmail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145-3752-48DA-8E42-B8F91DBE25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727-7039-44B5-93BE-6CAB772764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A1C4-FF63-4FBF-910E-3804319D3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CA3-8538-413E-A5D8-D2614F98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C9C-E15D-4A64-A359-4DE0DCC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02E-FB26-407D-8086-1566D293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B4E-E428-4738-9542-C98B73F7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4FF-EA99-4D4D-BF8F-A18181B4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79C-76C8-41FE-9F87-8755855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9CB-5807-4909-B6E7-0BF38586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1F9-CD6C-4E98-AA67-AC7A852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195-EDD3-4461-908A-BF94B774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F27-E2E1-484D-B0D8-2F7DD64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9E9-5994-4D17-B0E8-587DCBB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4DA-4194-4531-834E-EDD32DD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15D2-BD06-4776-90BC-7BE339111D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minim.wav" TargetMode="External"/><Relationship Id="rId4" Type="http://schemas.openxmlformats.org/officeDocument/2006/relationships/audio" Target="../media/nmai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val 8"/>
          <p:cNvSpPr/>
          <p:nvPr/>
        </p:nvSpPr>
        <p:spPr>
          <a:xfrm>
            <a:off x="457200" y="6019920"/>
            <a:ext cx="1905120" cy="609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нчик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1145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0" y="533520"/>
            <a:ext cx="510552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99"/>
                </a:solidFill>
                <a:uFillTx/>
                <a:latin typeface="Times New Roman"/>
              </a:rPr>
              <a:t>Проект на тем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 “</a:t>
            </a: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65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 лет городу Белово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086600" y="6019920"/>
            <a:ext cx="1676520" cy="6094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Перей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ma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0"/>
            <a:ext cx="449568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нкт(реконструкция), школа 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76 мест в 3-м микрорайоне, зд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ВД, АБ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бербанка, АБК таможенного поста, АБК Бачат-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КП,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кафе-экспресс с остановочным павильоном (п. Бабанаково), ресторан-столовая (п. Бачатский), магазин (п. Старо-Белово), магазин “Каприччи” (реконструкция), магазин с цехом полуфабрикатов, магазин непродовольственных товаров (реконструкция), введены в эксплуатацию коммунальный блок (п. Бабанаково). после капитального ремонта школа № 29 в пос. 8 Марта. 50-квартирный дом в п. Краснобродс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ут завершающие работы по строительству общежития гостиничного типа на 425 мест (73 квартиры предусмотрены для ветеранов и работников бюджетной сферы). Закончено строительство водовода в пос. Теле-ут. За счет долевых средств областного и местного бюджетов ведется строительство двух многоквартирных домов в 3-м микрорай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ервые в истории Кузбасса утверждена программа по вовлечению средств областного дорожного фонда на ремонт и строительство дорог в городе на 30,0 млн. руб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98 году для централизации управления ЖКХ создано МУП “Дирекция единого заказчика”. Объем обслуживаемого жилья составляет 1480,9 тыс. кв. 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а в эксплуатацию нитка водовода длиной 25 км от Уро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будущем намечено провести муниципализацию всего городского жилого фонда и перейти в 2002 году на полную оплату комму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2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образования города представляет сложнейший организм, насчитывающий 104 учреждения, в которых работают более 5,5 тыс. человек, в т.ч. 2793 педагогических работника, обучаются более 25 тыс. учащихся, около 4,5 тыс. воспитанников посещают 37 дошкольных образовательных учрежд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505320" y="304920"/>
            <a:ext cx="5410080" cy="64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ой физкультурно-спор-гивной базы города стали спортсооружения муниципальной собственности и спорткомплексы предприятий. Это детско-юношеская спортивная школа. Дом спорта, стадион “Шахтер”, стадион “Металлург”, стадион “Энергетик”, шахматный клуб, спорткомплекс в поселке Краснобродском, спорт-комплекс “Электроник”, спортивно-оздоровительный комплекс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ШУ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“Угольщик”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4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астоящее время в Белове оказывают медицинскую помощь 33 лечебно-профилактических учреждения: 8 больниц, которые одновременно, могут принять более 1500 человек, 6 поликлиник, 4 диспансера, станция скорой помощи, станция переливания крови, противотуберкулезный санаторий, 11 женских и детских консультаций. 2 центра здоровья при промышленных предприят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ми лечебно-профилактическими учреждениями города по праву считаются больницы: 1-я, 2-я, 8-я и железнодорожная ст. Бедово, в которых оказывается экстренная и плановая помощь с использованием самых современных технолог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98 году на базе железнодорожной больницы был проведен выездной семинар по эндохирургии ведущими специалистами кафедры эндохирургии Новокузнецкого института усовершенствования врачей. В 1998 году коллектив этой больницы, возглавляемый отличником здравоохранения И.М. Стецковичем, подтвердил первую квалификационную категор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городе продолжается развитие стационарозамеща-ющих технологий. Открыт дневной стационар при п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клипике поселка Бабапако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ская поликлиника №1 - это базовое многопрофильное врачебно-консультативное учреждение для жителей всего города. Здесь, усилиями высокопрофессионального коллектива, которым вот уже более 25 лет руководит врач высшей квалификационной категории Н.И. Идоленко, введены новейшие медицинские технологии в лечении и диагностике заболеваний. Единственный в городе и районе кабинет с использованием мам-мографического метода обследования мол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0"/>
            <a:ext cx="510552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 находится в поликлинике №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ными помощниками беловских врачей в борьбе за здоровье горожан всегда были сотрудники станции переливания крови. В 1995 году на станции был введен метод аппаратного плазмафереза - единственного в области. Плазма, полученная в Белове, отправляется в специализированные медицинские учреждения Новосибирска, Омска, Екатеринбурга и др. городов для производства таких ценных препаратов крови, как альбумин, глю-нат, гамма-глобулин и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стеме городского здравоохранения самоотверженно трудятся 3106 человек, в том числе: врачей - 418, среднего медицинского персонала - 1387, из них 99 человек удостоены знака “Отличник здравоохранения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ьми беловским врачам: Дмоховской Г.Н., Беловой А.П., Дробининой М.Д., Кузнецову М.А., Максимовой М.С., Малороссияновой З.Т., Котовой Л.И., Вьюжани-ной Ф.В. присвоено звание “Заслуженный врач РСФСР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cc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14400" y="12193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Эмблема города Белово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Географическое положение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Краткая историческая справка  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Климатические условия и природа 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Полезные ископаемые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Демография и трудовые ресурс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Герои войны и труда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Административно-территориальное устройств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Промышленность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Транспорт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троительство и коммунальное хозяйств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Образовани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порт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Здравоохранени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Культура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редства массовой информ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редний и малый бизнес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Поселок Красный Брод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Взгляд в будуще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33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2819520" y="228600"/>
            <a:ext cx="25905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главление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3352680" y="-152280"/>
            <a:ext cx="54104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мблема города Белово была   утверждена к празднованию его шестидесятилетнего юбилея на заседании градостроительной комиссии 20.11.98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 центре эмблемы расположен квадрат, разделенный на две  части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Верхний край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террикон» в форме треугольника символизирует угольную промышленность.Как известно,в 1851 году в окрестностях г. Белово</a:t>
            </a:r>
            <a:r>
              <a:rPr b="0" lang="ru-RU" sz="14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никла первая в Кузбассе Бачатская угольная копь, что позволяет считать Белово родоначальником угольной промышленности Кузбас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Нижний белый треугольник </a:t>
            </a:r>
            <a:r>
              <a:rPr b="0" lang="ru-RU" sz="1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лицетворяет чистоту и постоянство  трудолюбивых помыслов беловчан, а также ассоциируется с суровой сибирской зи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2211120" cy="2971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0" y="327672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фреза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браженная в центре квадрата, указывает на механический способ добычи угля и наличие машиностроительной отрасли в промышленной инфраструктур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гор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Три трубы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нчающие эмблему, и голубые волны в её основе символизирует одну из крупнейших тепловых электростанций объединенной энергетической системы Центральной Сибири- Беловскую ГРЭ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Верхняя част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лтого цвета - богатство энергии в нашем город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Нижняя част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сного цвета - выработанная энергия угл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Золо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желтый цв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мвол богатства, справедливости, великодушия и могуще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Сереб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 белый цв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тоты, доброты, непорочности и вод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Червле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 красный цв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мвол могущества, храбрости, неустрашимости , огня, тепл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Impact"/>
              </a:rPr>
              <a:t>Черный цвет-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мволизирует землю, скромность, образован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581280" y="0"/>
            <a:ext cx="5562720" cy="70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Белово расположен в лесостеп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ндшафтной зоне, в северной части. Кузнецкой  котловины, восточнее Салаирского кряжа. Его координаты 54°4 ’ северной широты и 86°6 ’ восточной долготы. Высота над уровнем моря составляет 200 метров. Общая площадь 37.308 гектаров, в т.ч. центральная часть- 9,5тыс.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35 км от города находится областной город  Кемерово, на севере в 30 км расположен город Ленинск-Кузнецкий, на юго- востоке 60 км - город Киселевск и на западе в 35 км - старинный город Гурьев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ом Президиума Верховного Совета РСФСР от 4декабря 1938 года рабочий поселок Белово был преобразован в город. Однако история возникновения населенного пункта уходит своими корнями в первую половину 18 века. Первое упоминание о деревне Белово в регистрационных списках Кузнецкого уезда относится к 176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гое время Белово было захолустной деревенькой, и только в начале 20 в. жизнь ее изменилась. Связано это было с открытием в 1921 г. железнодорожной ветки Кольчугино-Белово-Усяты (Прокопьевск)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растущему железнодорожному поселку вскоре добавился еще один. В 1928-1930 годах в Белове развернулось строительство цинкового металлургического комбината- первенца цветной металлургии Кузбасса. Поселок строителей завода, а потом и его работников стал вторым градообразующим фак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омный вклад в развитие социальной инфраструктуры центральной части города внес завод «Кузбассрадио», образованный из эвакуированных в годы войны предприятий - Коломенского патефонно-пластиночного завода и Одесского « Кинап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ез «Краснобродский» - первое в Кузбассе предприятие с открытым способом разработки  ( 1948г.) и крупнейший в стране угольный разрез «Бачатский» (1949 г.) дали жизнь одноименным горняцким поселкам Краснобродский и Бачатс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союзной ударной стройкой стало сооружение в 1955 г. в 14 км от Белова тепловой электростанции. В результате освоения территории на берегу реки Ини возник новый поселок строителей и эксплуатацио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971800" cy="269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63" name="Object 5"/>
          <p:cNvGraphicFramePr/>
          <p:nvPr/>
        </p:nvGraphicFramePr>
        <p:xfrm>
          <a:off x="304920" y="3200400"/>
          <a:ext cx="29718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200400"/>
                    <a:ext cx="2971800" cy="2743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886200" y="15228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505320" y="152280"/>
            <a:ext cx="5638680" cy="68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овской ГРЭС- Инс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став города с 1987 года входят поселок Артышта, а также поселок Дуброво и 275-й км. Это основные вехи становления гор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образна природа, окружающая город Белово. В основном это  лесостепь. Большой природный массив лиственного леса сохранился вокруг микрорайона Старо-Белово и в сторону поселка Инского. Хвойные массивы украшают окрестности Артышты, Бачатского и других населенных пунктов. Искусственные посадки сосны в какой-то  мере помогли восстановить часть зеленого пояса города. Однако интенсивное загрязнение окружающей среды пагубно сказывается на экологической обстановке в Белове и окружающих его посел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дной артерией города Белово является река Бачат с притоками. Площадь бассейна этой реки составляет 1720 квадратных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нашего района континентальный , с повышенным количеством осадков, значительными сезонными и суточными перепадами температур.Среднегодовое количество осадков 440 мм, из них за холодный период выпадает 106 мм, за теплый - 334 мм. Снег в наших местах сходит  в марте-апреле и держится в среднем 157 дней в году. Преобладающими во все времена года являются юго-западное и южное направление вет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я города и поселков расположена в геолого-экономической зоне двух основных угольных месторождений : Беловского и Бачатско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асы каменного угля достигают в общей сложности 10 млрд. тонн, в том числе 1,6 млрд. тонн коксующихся углей. Регулярная добыча «черного золота» в наших местах  началась в 1851 г. недалеко от деревни Белово, когда бала открыта Бачатская коп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ме месторождений каменного угля на территории города и поселков находятся разведанные и эксплуатируемые  месторождения стройматериалов, в основном  кирпичных глин и суглинков, а также формовочных пес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0880" y="380880"/>
          <a:ext cx="297360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2973600" cy="26956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2973600" cy="269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715000" y="380880"/>
          <a:ext cx="297324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880"/>
                    <a:ext cx="2973240" cy="26956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0" y="380880"/>
            <a:ext cx="5562720" cy="65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Белово пятый по численности населения в Кузбассе. Развитие промышленности обуславливало и прирост населения. В 1939 году, поданным  переписи, проживало 43,3 тысячи  горожан. Послевоенные годы  были отмечены резким ростом народо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59 г. Белово насчитывало уже 133,3 тысячи человек, в 1965-м - 144 тысячи, а в 1974 году эта цифра достигла 160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1 января 1998 г. в городе проживало 168,7 тысячи человек. В основном это русское население, хотя в Белове есть представители многих национальност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 активное население города составляет 87 тысяч человек. 64,8 тысячи заняты заняты в производственной и социальной сфере. В городе Белово 46 тысяч пенсионеров. К тому же значительная часть трудоспособного населения ( более 11 тысяч) остается невостребова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Белово богат боевыми и трудовыми традициями старшего поко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жественно сражались наши земляки на фронтах Великой Отечественной войны. 18 из них стали Героями Советского Союза. Более 50 беловчан награждены орденами Сл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достижения города, все лучшее, что в нем есть, стало возможным благодаря самоотверженному труду беловчан. Люди - вот главная гордость Белова. Яркие страницы в развитие города вписали сотни горожан, чей труд удостоен высоких правительственных наград, среди 15 Героев Социалистического Тру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жане низко склоняют  головы перед светлой памятью 22-х беловских ребят, чья жизнь трагически оборвалась в Афганистане и Чечне. В честь воинов-интернационалистов Павла Акулова, Олега Ачимова, Тагира Салахова, Евгения Козлова, Андрея Ены и Сергея Малыша названы улицы и переулки гор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715000" y="3429000"/>
            <a:ext cx="2973240" cy="26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304920" y="304920"/>
          <a:ext cx="2973240" cy="26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2973240" cy="2695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Text Box 5"/>
          <p:cNvSpPr/>
          <p:nvPr/>
        </p:nvSpPr>
        <p:spPr>
          <a:xfrm>
            <a:off x="3429000" y="0"/>
            <a:ext cx="571500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городе активно действуют законодательная и исполнительная власти.Законодательная власть осуществляется городским Советом народных депутатов. Исполнительная власть представлена  администрацией города Бело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 город состоит из центральной части и рабочих поселков. Самый Большой поселок Новый Городок по числу жителей  уже подошел ек 20-тысячной отметке ( согласно данным, на начало 1998 года в Новом Городке насчитывалось 19,6 тысячи человек населения). Население поселка Кранобродского достигло 13 тысяч, в поселке Инском 14,6 тысячи, в Грамотеине 16,4 тысячи. Примерно столько же прожиает в поселке Бачатском. - 16,3 тысячи человек. Самый маленький поселок Артышта, в нем насчитывается 3,7 тысячи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росанность поселков значительно расширяет общую площадь города . Вместе  с поселками она составляет 37,308 , в то время как собственно центральная часть города занимает территорию в 9,564 гект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ми удаленными поселками  является  Краснобродский (46 км) и Артышта  (45 км). Часть городского населения  ( 1,4 тысячи человек) проживает в сельской местности, поселке Новый Каракан, селах Дуброво и Зареч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мышленность города даже в условиях углубляющегося экономического кризиса продолжает оставаться мощным созидательным потенциалом. Сейчас базовой отраслью города являются предприятия топливио-эиергетического комплекса. 65 процентов объема промышленной продукции приходится на угольную отрасль. Это четыре угледобывающих разреза, ныне ставших акционерными обществами: ОАО “Разрез “Бачат-ский”, ОАО “Разрез “Караканский”. ОАО “Разрез “Краснобродский” и ОАО “Разрез “Сартаки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омый вклад в добычу каменного угля в городе вносят пять угольных шахт: ОАО “Шахта “Инская”. 000 “Шахта “Грамотеинская”, ОАО “Шахта “Колмогоровская”. ОАО “Шахта “Новая”, ОАО “Шахта “Чертинская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ыре из них входят в Беловский филиал угольной компании “Кузбассуголь”. За 1998 год добыча угля горнодобывающими предприятиями этой компании составила 2.953 тысячи тонн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8600" y="0"/>
            <a:ext cx="5562720" cy="73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1999 год шахтами Беловско-го рудника выдано на-гора 3.022 тысячи тонн “черного золота”. Дальнейшее развитие города, упрочнение его экономического положения напрямую зависит от деятельности промышленных предприятий. В городе создана промышленная комиссия во главе с генеральным директором ОАО “Разрез “Бачатский” Н.С. Приезжевым. Сейчас городские власти разрабатывают схему взаимопоставок, согласно которой планируется отгрузка бе-ловского угля на Алтай за медикаменты и другую продук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базе местных угледобывающих предприятий работают две обогатительные фабрики ОАО “ГОФ “Чертинская” и ОАО “ЦОФ “Ведовская”. Энергетика имеет особое значение для экономического потенциала города. На нее приходится 30 процентов объема всей промышленной продукции. Одной из крупнейших энерговырабатывающих электростанций в Кузбассе с 1964 года является Беловская ГРЭС. До недавнего времени ОАО “Беловская ГРЭС” могла вырабатывать 9 миллионов киловатт-часов в год. Но экономический кризис коснулся и этого орденоносного предприятия. Однако беловские энергетики сохранили производственный потенциал и славные трудовые традиции. В городе также расположены ОАО “Центральные электрические сети”. ОАО “Беловское энергоуправление” и ОАО “Беловская горэлектросеть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оследние годы бывшие государственные заводы стали акционерными обществами. ОАО “Беловский цинковый завод” - предприятие цветной металлургии (цинк, серная кислота, сухие цинковые белила). ОАО “Сибэлком” выпускает коммутационные и установочные изделия. К машиностроению и металлообработке также относятся ОАО “Беловский машиностроительный завод”, ОАО “Беловский энергоремонтный завод”, ОАО “Беловские ЦЭММ”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 строительных материалов представлено предприятиями: ОАО “Завод “Стройдеталь”, ОАО “Беловский завод железобетонных изделий”, ОАО “Завод железобетонных конструкций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ми поставщиками продуктов питания для горожан и сельских жителей всегда являлись местные предприятия пищевой промышленности: ОАО “Беловский гормолзавод”, ОАО “Беловохлеб” и ОАО “Беловский мясокомбинат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городе функционируют 378 предприятий торговли и общественного питания, в которых работает около 5000 человек. На территории города имеется 8 рынков, в том числе 5 - муниципальной собств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3333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3733920" y="228600"/>
            <a:ext cx="4952880" cy="65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мотря на огромные трудности, не сдают своих позиций железнодорожники города. Белове - крупнейший железнодорожный узел Кузбасса. Наш город раскинулся вдоль электрифицированной железнодорожной магистрали Новокузнецк - Артышта - Проектная - Новосибирск. С железнодорожной станции Белове есть еще один выход на главную сибирскую магистраль: через станции Проектная - Топки (с веткой на Кемерово) -Юргу. Через станцию Артышта поезда идут на Алтай, в Казахстан. На другом направлении к станции Белове примыкает железнодорожная ветка Гурьевск - Салаи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98 году, после расформирования Кемеровской  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й дороги и ее Беловского отделения, создан Беловский подотдел Кузбасского филиала Западно-Сибирской железной дороги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едприятия железнодорожного узла продолжают работать стаби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же стала историей города многолетняя трудовая деятельность ОАО “Беловское пассажирское автопредприятие”. Первые десять автобусов общего пользования появились на городских улицах в 1953 году. Сегодня ПАТП продолжает обслуживать 36 маршрутов общей протяженностью более 1900 км. Автобусы междугородного сообщения связывают наш город со всеми городами Кузбасса, а также с городами Томском и Новосибирском. Осуществляются регулярные пассажирские перевозки в Кемерово, Ленинск-Кузнецкий, Юргу, Новокузнецк, Междуреченск, Новосибирск, Гурьевск и в другие города обл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Белове действуют несколько грузовых и специальных автохозяйств. Среди ни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А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“Автомобилист”, МУП “Спецавтохозяйство”, Чертинская. Ведовская, Инская и Бачатская авто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1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1.09.99 года в городе функционирует 14 строительных организаций (2000 чел.), которые в 1998 году освоили объемы работ на 99,8 млн. руб. Построено жилья общей площадью 12,7 тыс. кв.м (26% от 1997 года). кроме того, индивидуального - 10,7 тыс. кв.м, 6 автозаправочных станций,аптеч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21:42:15Z</dcterms:created>
  <dc:creator>1</dc:creator>
  <dc:description/>
  <dc:language>en-US</dc:language>
  <cp:lastModifiedBy>1</cp:lastModifiedBy>
  <dcterms:modified xsi:type="dcterms:W3CDTF">2008-07-25T08:27:18Z</dcterms:modified>
  <cp:revision>9</cp:revision>
  <dc:subject/>
  <dc:title>Заголовок слайда отсутствует</dc:title>
</cp:coreProperties>
</file>